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3C7-F4FE-4FA5-BE6E-D046CF1A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E9F-2A4B-417E-BB58-8CEF335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DED-13A5-4FA5-A0D1-4401AC98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084-6F28-4E23-AE80-3D35DBB6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CB6-51D8-4790-9683-D6BED153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8FF-2F9C-4F55-BC6E-A5F92A6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FDC-1F87-430B-80D1-DDA9F301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743-8BA7-4D61-9D6B-E78ADDE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5C1-8B7C-4F66-B672-475E235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556-0B09-4C63-94DD-57287FB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FA5-7000-4864-B797-74E6C81E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FF2-3105-439E-9D78-32D496F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8E81-B318-43BD-A788-36AD0956D3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Sigma 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ermutations and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) The 5 girls stan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So total number of poss arrngmts     =    5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400" spc="-1" strike="noStrike" u="sng">
                <a:solidFill>
                  <a:srgbClr val="0000ff"/>
                </a:solidFill>
                <a:uFillTx/>
                <a:latin typeface="Arial"/>
              </a:rPr>
              <a:t>14 40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35712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0. 8 people line up.  How many possible arrangements if shortest can’t be next to tall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Answer  = Number of ways of arranging 8 people –  nbr arrgmts wher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shortest </a:t>
            </a:r>
            <a:r>
              <a:rPr b="1" i="1" lang="en-NZ" sz="22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besid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tall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 u="sng">
                <a:solidFill>
                  <a:srgbClr val="0000ff"/>
                </a:solidFill>
                <a:uFillTx/>
                <a:latin typeface="Arial"/>
              </a:rPr>
              <a:t>So first need to find number of orders where shortest </a:t>
            </a:r>
            <a:r>
              <a:rPr b="1" i="1" lang="en-NZ" sz="2200" spc="-1" strike="noStrike" u="sng">
                <a:solidFill>
                  <a:srgbClr val="0000ff"/>
                </a:solidFill>
                <a:uFillTx/>
                <a:latin typeface="Arial"/>
              </a:rPr>
              <a:t>is</a:t>
            </a:r>
            <a:r>
              <a:rPr b="0" lang="en-NZ" sz="2200" spc="-1" strike="noStrike" u="sng">
                <a:solidFill>
                  <a:srgbClr val="0000ff"/>
                </a:solidFill>
                <a:uFillTx/>
                <a:latin typeface="Arial"/>
              </a:rPr>
              <a:t> beside talle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To find this, treat them as an inseparable pair.  So now it’s like there are 7 people (6 people + an inseparable pair (shortest &amp; tall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There are 7! ways of arranging 7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However, this must be doubled.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Because there are </a:t>
            </a:r>
            <a:r>
              <a:rPr b="1" i="1" lang="en-NZ" sz="2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possible orders for our inseparable pair:  shortest then tallest, or tallest then shor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So nbr arrngmts where shortest </a:t>
            </a:r>
            <a:r>
              <a:rPr b="1" i="1" lang="en-NZ" sz="2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beside tallest = 2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× 7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Answer  = Number of ways of arranging 8 people –  nbr arrgmts wher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shortest </a:t>
            </a:r>
            <a:r>
              <a:rPr b="1" i="1" lang="en-NZ" sz="22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besid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tall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=  8!       –       2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× 7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200" spc="-1" strike="noStrike" u="sng">
                <a:solidFill>
                  <a:srgbClr val="ff0000"/>
                </a:solidFill>
                <a:uFillTx/>
                <a:latin typeface="Arial"/>
              </a:rPr>
              <a:t>30 240 ways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1. In how many ways can a rowing 8 be made up from 4 North Islanders and 4 South Island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f there are no restrictions on sea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2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= 8! = </a:t>
            </a:r>
            <a:r>
              <a:rPr b="1" lang="en-NZ" sz="2200" spc="-1" strike="noStrike" u="sng">
                <a:solidFill>
                  <a:srgbClr val="ff0000"/>
                </a:solidFill>
                <a:uFillTx/>
                <a:latin typeface="Arial"/>
              </a:rPr>
              <a:t>40 320 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(b) If all the South Islanders sit at the fro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Nbr ways of arnging 4 </a:t>
            </a:r>
            <a:r>
              <a:rPr b="0" lang="en-NZ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ers at fro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ways of arnging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ers a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4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576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rth and South Islanders must alternate se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be either: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otal nbr way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br ways of getting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nbr ways 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 4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+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×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152 way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2. How many different 8-letter words can be formed from the letters of the word ‘binomial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200" spc="-1" strike="noStrike">
                <a:solidFill>
                  <a:srgbClr val="ff0000"/>
                </a:solidFill>
                <a:latin typeface="Times New Roman"/>
              </a:rPr>
              <a:t>B I N O M I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8 letters so all possible arrangements would be 8! (i.e. </a:t>
            </a:r>
            <a:r>
              <a:rPr b="0" lang="en-NZ" sz="22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However there are 2 I’s.  All the letters must be used for each arrangement (8-letter words), so both I’s will be present in all 8! possible arran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Think of it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8! is the number of arrangements if the order of the 2 I’s (i.e. which comes first and which comes second) is relev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In reality this is </a:t>
            </a:r>
            <a:r>
              <a:rPr b="0" lang="en-NZ" sz="2200" spc="-1" strike="noStrike" u="sng">
                <a:solidFill>
                  <a:srgbClr val="0000ff"/>
                </a:solidFill>
                <a:uFillTx/>
                <a:latin typeface="Times New Roman"/>
              </a:rPr>
              <a:t>irrelevant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– it makes no difference which I occurs first in the word.  They’re both the sam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(e.g.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 is the same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We must therefore 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Times New Roman"/>
              </a:rPr>
              <a:t>halve</a:t>
            </a: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 the number of arrangements, so the final answ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br of  ways of arranging BI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o an 8-letter word without consecutive I’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2. How many different 8-letter words can be formed from the letters of the word ‘binomial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200" spc="-1" strike="noStrike">
                <a:solidFill>
                  <a:srgbClr val="ff0000"/>
                </a:solidFill>
                <a:latin typeface="Times New Roman"/>
              </a:rPr>
              <a:t>B I N O M I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8 letters so all possible arrangements would be 8! (i.e. </a:t>
            </a:r>
            <a:r>
              <a:rPr b="0" lang="en-NZ" sz="22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However there are 2 I’s.  All the letters must be used for each arrangement (8-letter words), so both I’s will be present in all 8! possible arran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Think of it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8! is the number of arrangements if the order of the 2 I’s (i.e. which comes first and which comes second) is relev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In reality this is </a:t>
            </a:r>
            <a:r>
              <a:rPr b="0" lang="en-NZ" sz="2200" spc="-1" strike="noStrike" u="sng">
                <a:solidFill>
                  <a:srgbClr val="0000ff"/>
                </a:solidFill>
                <a:uFillTx/>
                <a:latin typeface="Times New Roman"/>
              </a:rPr>
              <a:t>irrelevant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– it makes no difference which I occurs first in the word.  They’re both the sam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(e.g.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 is the same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We must therefore 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Times New Roman"/>
              </a:rPr>
              <a:t>halve</a:t>
            </a: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 the number of arrangements, so the final answ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br of  ways of arranging BI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o an 8-letter word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=  8! ÷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0 160 way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*13.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Excellence level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How many ways can a path be laid in a straight line using 7 brick paving stones, 4 concrete slabs and 5 slate tiles (all are the same siz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2340000" y="2174760"/>
                <a:ext cx="6264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of ways of arranging all 16 slab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ways of arranging the slabs within their typ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0" y="2205000"/>
            <a:ext cx="241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otal nbr of way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484360" y="3284640"/>
                <a:ext cx="1582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Text Box 7"/>
          <p:cNvSpPr/>
          <p:nvPr/>
        </p:nvSpPr>
        <p:spPr>
          <a:xfrm>
            <a:off x="2000160" y="4572000"/>
            <a:ext cx="31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 441 440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Gareth is arranging his magazines in order on the shelf: 3 surfing mags (S), 7 computer mags (C), 5 rugby league mags (R).  In how many ways can the mags be arrang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restri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’re just arranging 15 different mags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gardless of 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different from Q13 because (unlike the paving stones) every item i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i.e. no 2 magazines are the sam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Gareth is arranging his magazines in order on the shelf: 3 surfing mags (S), 7 computer mags (C), 5 rugby league mags (R).  In how many ways can the mags be arrang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restri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’re just arranging 15 different mags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gardless of 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different from Q13 because (unlike the paving stones) every item i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i.e. no 2 magazines are the same).  Thus we can simply treat the 15 magazines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 different obje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ing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rrange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 We can forget about type (i.e. S, C or 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5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.308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× 10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"/>
                <a:ea typeface="Times New Roman"/>
              </a:rPr>
              <a:t>12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way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to 3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magazines of each type stay together as a gro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magazines of each type stay together as a gro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So there are 6 </a:t>
            </a:r>
            <a:r>
              <a:rPr b="0" i="1" lang="en-NZ" sz="2200" spc="-1" strike="noStrike">
                <a:solidFill>
                  <a:srgbClr val="ff0000"/>
                </a:solidFill>
                <a:latin typeface="Comic Sans MS"/>
              </a:rPr>
              <a:t>(or 3!)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 different possible orders of the 3 gro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total nbr of arngmts possible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3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7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5!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21 772 80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. 8.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ge 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5. Christmas street parade:  3 Pipe Bands, 5 Floats &amp; 2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arrangements for the pa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Like with 14(a), we’re just arranging all of the objects, regardless of typ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In this case it is 10 different items in a parade.  W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omic Sans MS"/>
              </a:rPr>
              <a:t>don’t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 need to worry about type (i.e. bands, floats, or clow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0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628 800 way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2280" y="495288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pipe bands comes first &amp; the clowns are placed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5. Christmas street parade:  3 Pipe Bands, 5 Floats &amp; 2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arrangements for the pa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Like with 14(a), we’re just arranging all of the objects, regardless of typ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In this case it is 10 different items in a parade.  W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omic Sans MS"/>
              </a:rPr>
              <a:t>don’t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 need to worry about type (i.e. bands, floats, or clow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0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628 800 way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495288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pipe bands comes first &amp; the clowns are placed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ust b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3P, 5F, 2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5. Christmas street parade:  3 Pipe Bands, 5 Floats &amp; 2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arrangements for the pa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Like with 14(a), we’re just arranging all of the objects, regardless of typ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In this case it is 10 different items in a parade.  W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omic Sans MS"/>
              </a:rPr>
              <a:t>don’t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 need to worry about type (i.e. bands, floats, or clow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0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628 800 way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495288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pipe bands comes first &amp; the clowns are placed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ust b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3P, 5F, 2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= 3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5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2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44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54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. Horse trainer: 9 horses, 4 joc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024 ways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. EQUATIONS:  How many words with 4 letters, each used jus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024 ways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. Hotel room: 4 people assigned to 16 different 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6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43 680 way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. RHOMBUS: How many different 5-lette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ast letter always “u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u” is fixed at the end ( _ _ _ _ u ), so think of it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In how many ways can you arrange RHOMBS into 4-letter 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6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 Gambler A bets on winner &amp;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;  Gambler B bets on winner,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&amp; 3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8 horses in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ts in $1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Gambler A outlay 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nbr possible arrangement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$3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Gambler B outlay 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nbr possible arrangement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$48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7. In how many ways can 4 bollards &amp; a child be arranged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a) The child is on one 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child could be on either end, then, for each of those, the 4 bollards could be arranged in 4! different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arrangements of bollard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br possible positions for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×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4!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48 ways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OR, using the multiplication principle: 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4×3×2×1×1 =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8 way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b) The child is NOT on one 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be a bollard on both ends then.  Child could be in any of the three positions in betw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arrangements of bollard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br possible positions for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×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4!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72 ways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. How many words with 3 letters can be formed from NORMAL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ithout repeat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given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 The letter n must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” is guaranteed so don’t need to select it, but it could be in 3 possible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le arrangements of 2 letters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from O R M A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nbr possible positions f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i="1" lang="en-NZ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N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6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letter n must not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le arrangements of 3 letters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from O R M A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i="1" lang="en-NZ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6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. 5 girls &amp; 4 boys standing in line.  How many ways of arranging them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a) They can stand in any pos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ways = Number of possible arrangements of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all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or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62 880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b) Shortest girl stands at one 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 ways = Number of possible positions for shortest gi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umber of poss arrangements of the other 8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8!  (the “2” is because the girl could be at either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80 640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c) Each pair of girls has a boy in between (alterna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be GBGBGBGBG so, using the multiplication princi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ways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4 ×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× 3 ×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× 2 ×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× 1 ×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5!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4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80 way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) The 5 girls stan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) The 5 girls stan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37:48Z</dcterms:created>
  <dc:creator>Jeremy Brocklehurst</dc:creator>
  <dc:description/>
  <dc:language>en-US</dc:language>
  <cp:lastModifiedBy>Jeremy Brocklehurst</cp:lastModifiedBy>
  <dcterms:modified xsi:type="dcterms:W3CDTF">2011-04-07T23:08:10Z</dcterms:modified>
  <cp:revision>60</cp:revision>
  <dc:subject>Year 13 Statistics &amp; Modelling</dc:subject>
  <dc:title>Sigma solutions</dc:title>
</cp:coreProperties>
</file>